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4073-A6AE-4206-B3A7-167E5EC3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42BA-5507-43DA-88A4-73896FBC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A61E-F53E-4D27-A6EB-633ACC2A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23E5-9ED7-4F9A-9CAF-BE81761B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6777-9388-42D2-B4B6-644FD6CA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A6B9-A4C3-4B3B-9124-AB9E1F28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9BB8-731E-4657-AE89-619D194A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6EE7-C0DA-4116-8589-925CFF27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B280-E519-421F-8099-DE9E48B8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1358-3E2E-4BB3-B7DE-380F8A14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7BBF-779C-402D-9BD7-241653BD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36CD-BE4E-4F72-ADBB-F3B3CC66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H01926J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019560"/>
            <a:ext cx="685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C20A-F9D3-48CA-988E-C67589119AA0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PH01926J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6/Eisenhower_d-da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sson 3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e War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llies defeat Germany and Italy by coordinating war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dy Landing aka D-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462E-7D6F-458A-B5EA-1DAF888A4E0C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52280" y="1574640"/>
            <a:ext cx="8153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ED9A-B0ED-4101-B36E-6517E5405F6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93760" y="0"/>
            <a:ext cx="85453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6F4E-C749-47A6-BD7A-605BE296914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9080" y="533520"/>
            <a:ext cx="912492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8275-02E2-4296-84AA-07DFED3CD7B0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76440" y="-52560"/>
            <a:ext cx="51292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D8CE-4F64-44CF-8689-7A521D1FBD37}" type="slidenum">
              <a:rPr b="0" lang="en-US" sz="2000" spc="-1" strike="noStrike">
                <a:solidFill>
                  <a:srgbClr val="ffffd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ile:Eisenhower d-d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06640"/>
            <a:ext cx="7170840" cy="575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. Eisenhower with D-Day troops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en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726E-2932-42F8-B44D-D4FAFDCF7D1F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ving Private Ry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ing in Normand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5D4E-7ED6-4F3B-B49F-6078D2F840A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s surrendering at   St.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t-lo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5A95-6FD8-4F89-A6FA-52D3030D83A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POW’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arislib2"/>
          <p:cNvPicPr/>
          <p:nvPr/>
        </p:nvPicPr>
        <p:blipFill>
          <a:blip r:embed="rId1"/>
          <a:stretch/>
        </p:blipFill>
        <p:spPr>
          <a:xfrm>
            <a:off x="304920" y="1805040"/>
            <a:ext cx="62481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9CD6-E99E-4DD0-98B8-B7AE8CEBA6B2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. Dwight Eisenh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upreme Commander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48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1828800" y="1800360"/>
            <a:ext cx="5486400" cy="3170160"/>
            <a:chOff x="1828800" y="1800360"/>
            <a:chExt cx="5486400" cy="3170160"/>
          </a:xfrm>
        </p:grpSpPr>
        <p:sp>
          <p:nvSpPr>
            <p:cNvPr id="89" name="Rectangle 9"/>
            <p:cNvSpPr/>
            <p:nvPr/>
          </p:nvSpPr>
          <p:spPr>
            <a:xfrm>
              <a:off x="1828800" y="1800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1828800" y="1800360"/>
              <a:ext cx="548640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1" descr="Photograph, The Supreme Allied Commander at 8th Infantry Division headquarters in Belgium, November 1944."/>
          <p:cNvPicPr/>
          <p:nvPr/>
        </p:nvPicPr>
        <p:blipFill>
          <a:blip r:embed="rId1"/>
          <a:stretch/>
        </p:blipFill>
        <p:spPr>
          <a:xfrm>
            <a:off x="3200400" y="1447920"/>
            <a:ext cx="344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3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opping the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North Africa: 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 Stalin wanted Allies to invade France first so Hitler would have to split his 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rchill and FDR launch O.T. instead; not ready to attack France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lin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. Patton kick b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teu"/>
          <p:cNvPicPr/>
          <p:nvPr/>
        </p:nvPicPr>
        <p:blipFill>
          <a:blip r:embed="rId1"/>
          <a:srcRect l="0" t="0" r="0" b="20475"/>
          <a:stretch/>
        </p:blipFill>
        <p:spPr>
          <a:xfrm>
            <a:off x="5535720" y="3581280"/>
            <a:ext cx="3554280" cy="309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6095880" y="182520"/>
            <a:ext cx="2433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Battle of the 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7 mos of attack by wolf packs along US east coast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8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ied ships           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*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oy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nar and radar help turn tide for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Building rate for ships increas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0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 from 100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atlantic"/>
          <p:cNvPicPr/>
          <p:nvPr/>
        </p:nvPicPr>
        <p:blipFill>
          <a:blip r:embed="rId1"/>
          <a:stretch/>
        </p:blipFill>
        <p:spPr>
          <a:xfrm>
            <a:off x="4952880" y="160020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Battle of Stalingra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-Nov 194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1145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Invasion of Stalingrad due to Germans nee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il and indu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Started in summer; thought it would be an easy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Fighting endured for months and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Germans on defensive; were not allowed to retreat; eventually surrendered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 re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-36360" y="1092240"/>
            <a:ext cx="9144000" cy="360"/>
          </a:xfrm>
          <a:prstGeom prst="rect">
            <a:avLst/>
          </a:prstGeom>
          <a:solidFill>
            <a:srgbClr val="e4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0920" bIns="-70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-36360" y="1092240"/>
            <a:ext cx="9144000" cy="360"/>
            <a:chOff x="-36360" y="1092240"/>
            <a:chExt cx="9144000" cy="360"/>
          </a:xfrm>
        </p:grpSpPr>
        <p:sp>
          <p:nvSpPr>
            <p:cNvPr id="103" name="Rectangle 11"/>
            <p:cNvSpPr/>
            <p:nvPr/>
          </p:nvSpPr>
          <p:spPr>
            <a:xfrm>
              <a:off x="-36360" y="1092240"/>
              <a:ext cx="9144000" cy="360"/>
            </a:xfrm>
            <a:prstGeom prst="rect">
              <a:avLst/>
            </a:prstGeom>
            <a:solidFill>
              <a:srgbClr val="e4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-36360" y="1092240"/>
              <a:ext cx="9144000" cy="360"/>
              <a:chOff x="-36360" y="1092240"/>
              <a:chExt cx="9144000" cy="3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solidFill>
                <a:srgbClr val="e4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" name="Picture 13" descr="Map_european_russia_volgograd"/>
          <p:cNvPicPr/>
          <p:nvPr/>
        </p:nvPicPr>
        <p:blipFill>
          <a:blip r:embed="rId1"/>
          <a:stretch/>
        </p:blipFill>
        <p:spPr>
          <a:xfrm>
            <a:off x="4343400" y="1371600"/>
            <a:ext cx="4438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DEE9-EFD6-4C39-8EA8-69254A1CFBE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Italian Campaign (19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Italy from the              south in Sicily* the “soft underbelly”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captured and     executed; hung in tow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iteu"/>
          <p:cNvPicPr/>
          <p:nvPr/>
        </p:nvPicPr>
        <p:blipFill>
          <a:blip r:embed="rId1"/>
          <a:stretch/>
        </p:blipFill>
        <p:spPr>
          <a:xfrm>
            <a:off x="5638680" y="1790640"/>
            <a:ext cx="3657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73D8-A7EF-4782-B2FA-B9D7114646A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icily-ship"/>
          <p:cNvPicPr/>
          <p:nvPr/>
        </p:nvPicPr>
        <p:blipFill>
          <a:blip r:embed="rId1"/>
          <a:stretch/>
        </p:blipFill>
        <p:spPr>
          <a:xfrm>
            <a:off x="228600" y="1371600"/>
            <a:ext cx="6651720" cy="4479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unitions cargo ship bombed by Germans; Italia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ehran Con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Roosevelt, Churchill  and Stalin before invasion o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launch full-scale offensive against Germans after French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ivided amongst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support militarily against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6F5C-CC6D-44D6-B689-4DBA460EF6A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371600" y="4111560"/>
            <a:ext cx="4362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9634-0CCA-4466-90E7-BC6624775D63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 Landing in France: Operation Over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-Day: June 6, 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ay Allies inva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led by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. Eisenh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Plan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Lead by 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mb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 routes (ro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s, RR) for 6 wk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2,500 killed (matter of hours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Allowed Gen Patton and his m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Paris via St.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5870520" y="1219320"/>
            <a:ext cx="32734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2:44:08Z</dcterms:created>
  <dc:creator>SUPER</dc:creator>
  <dc:description/>
  <dc:language>en-US</dc:language>
  <cp:lastModifiedBy>SUPER</cp:lastModifiedBy>
  <dcterms:modified xsi:type="dcterms:W3CDTF">2018-01-09T23:03:19Z</dcterms:modified>
  <cp:revision>35</cp:revision>
  <dc:subject/>
  <dc:title>PowerPoint Presentation</dc:title>
</cp:coreProperties>
</file>